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5E9-D449-4FA7-9B80-B5EACD8F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B68-1054-4146-90A6-9E492438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9EE-5953-40EC-AB12-EED6DE7A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5A0-271C-4B41-9844-7D5A63A8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C456-DA35-4CB9-B4FF-EA031A15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8796-C4CC-481D-8617-C934116C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D69C-1191-459A-9595-4741D3C3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C981-A88E-46F0-B67E-F20A57BE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EADB-29FF-46E9-8A15-F38935A0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87CA-7E61-450C-9F01-C6FF250F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28A4-09A7-453A-B714-F78C6156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DD6-C78B-4C52-A9E1-84AAD6AA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AABD-DF90-4E05-A0A0-3CB57B88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61C9-3D02-4AC3-A2D4-8FD4F5A1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6A8D-EFB9-4CA1-A801-60AD267B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86EF-1814-42FD-8866-DF2D1FB5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E95E-E115-4F3C-A3C3-C522348D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39AB6-22B8-420A-9619-55193185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7E35-B538-4553-8F5B-73129782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974D-7647-4D89-BADA-9620E5CB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2E28-8D23-4970-A9AC-B278888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F7B37-A7D9-45DC-ABAF-C9F7916B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590-8BEF-414C-8144-7C81FC5C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2EB1-87D1-49D3-8294-4A15CAFF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0D30-451F-475A-8CC9-E0D8B7E1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36A3-A4F8-4A53-A685-3362F074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3B38-41C5-4DFA-8F1D-4ACBCC64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694E-1B5E-4D45-BCFF-0808C412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1D9D-8F9D-47CC-AFDD-905B5FDF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41AF0-424E-443A-BB81-E86D7693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2BDA3-4B47-4CB2-957B-DF6FEF9F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05EEA-0F5A-4041-BD25-B768B23A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0E7E-8544-487F-8B71-D42C38F2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809-5EB8-429A-947E-2B13662C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9C5A2-67B6-4195-8A78-06C17DB2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5ACB-075D-451E-888A-10095B5E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48AB9-EE28-41A3-8A81-92D9ED54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AD29-FB41-483A-A193-335B38FF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5894-6DAA-4345-BB93-BBD66F4E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89121-A668-4BBB-8FE7-8E4522F3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2C5DE-2C56-48D8-9613-FCCD8A96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C7AF-A0EF-4560-B162-12388A12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E3535-BC9F-4CB9-9FCA-44A5D771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09A50-4209-4780-9B61-E6785EE1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CE6-DA6F-4678-BE93-AD4E84F2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5DF47-18FB-449E-9B05-4432E385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CAC8-BFBC-4FB3-BDE1-846E187C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4895C-1EF5-44D7-86D7-10044BAC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0964E-5249-40C1-B37B-36A9B488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DFE12-9272-4FC6-9872-D8A32464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23D7D-BC66-463D-97C6-5216D91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07A4B-5C2E-4ABA-952E-9631769F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6EDF3-53A9-4C75-B61A-6F12380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BB107-B476-4405-B2E5-82C9688A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D33CF-EC41-4851-A8E2-999A1527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9B0-0202-4497-8E24-9AC5A328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4FA8E-BC2A-4617-A250-077E7841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808D3-F477-4E82-A01D-7CAF60FE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A4C07-D68C-411F-A395-92015411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9BC5D-6024-4F17-88FB-86724CAB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6819-6EF5-4D89-9454-A3DE67CA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BAA87-FF9D-48B1-AF39-03F59CE8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A51F3-2590-4D8E-AE76-CA51EBAD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E7DEC-44CC-4FD9-A3C7-78139E42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7BF7D-B933-4480-9B2C-BD777C7F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22C9C-225A-4828-A1ED-498F21E4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055-6788-40DB-BAC3-11140CAA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E2C0E-C821-43DD-AAD5-4F29E9A1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A99F4-6B3E-49DF-95A0-0C064D7B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EBE01-006D-4AC9-9A7B-39AFAEA6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774F5-0405-49D2-8D00-5DB7DA12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A24A2-26ED-4C52-A18D-6DDD8836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655CB-98BA-43C0-AF01-B902F1EA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8817C-145B-4B69-BE3A-BB44FAB6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C7CD-514C-4FE0-BB6C-C8FC92FF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48372-093C-4709-AD93-5ADFD65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922C2-ABCE-4671-96C8-7CCB76E4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DC8-7DFC-4F79-8152-C03927DA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B325C-2DB0-4228-BF29-72885C4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2280D-F344-4F59-A40D-B3D29246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0D709-406D-4BEB-A46C-B94C542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B921A-5C31-4585-9FA5-B2A3556B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BB7AE-0026-4C6C-B3B3-769E8378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547-CEC4-4C1E-95EE-010997D1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64B23-177A-4957-BD01-53F8A7F6CF6F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06820-BF6C-4625-AB01-684FEC7AD27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1C74D-29F9-4470-B72F-50B8D19543E9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431DF-4667-48B4-9094-315898A74FD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FC1E2-A5E3-4D1C-94DB-99C5185A92DE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BE121-4977-4AB1-AA02-756FD3F9542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ED55D-8F64-442D-B243-C32825EF6333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585BF-93F6-40CB-8C2E-B8B2FCA8B228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CAF75-9AD3-4482-A65D-9FF3EEACC4E1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BD90B-A36A-4D65-B22F-6894929BF70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83374-E899-47EF-A7CE-72520F8431A3}" type="datetime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F6B5F-A856-4568-A6B8-592F15FCF99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A4AF0-769F-44B3-89B6-B40A2CB29FAE}" type="datetime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17624-6B62-45B8-A3C2-50667FDEE56A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42880" y="658800"/>
            <a:ext cx="8472600" cy="18828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266320" cy="183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ncargo previo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l viaj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Llegada al lugar y enfrentamiento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yuda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uida accidentada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torno victorioso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l rey Pelias le encarga a Jasón encontrar y conseguir el vellocino de oro. El encargo previo debia hacerse a aquel hombre qu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pareciera solamente c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a sandalia, éste sería e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ombre que deberí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travesar estas prueba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eligrosas para poder traer 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ellocino al rey y asÍ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cupar su tron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4" descr="07000.jpg"/>
          <p:cNvPicPr/>
          <p:nvPr/>
        </p:nvPicPr>
        <p:blipFill>
          <a:blip r:embed="rId2"/>
          <a:stretch/>
        </p:blipFill>
        <p:spPr>
          <a:xfrm>
            <a:off x="6556320" y="3483000"/>
            <a:ext cx="213048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9" name="Content Placeholder 2" descr=""/>
          <p:cNvPicPr/>
          <p:nvPr/>
        </p:nvPicPr>
        <p:blipFill>
          <a:blip r:embed="rId2"/>
          <a:stretch/>
        </p:blipFill>
        <p:spPr>
          <a:xfrm>
            <a:off x="457200" y="1736640"/>
            <a:ext cx="8229600" cy="4719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g1_u7284_jasonvoyage.gif"/>
          <p:cNvPicPr/>
          <p:nvPr/>
        </p:nvPicPr>
        <p:blipFill>
          <a:blip r:embed="rId3"/>
          <a:stretch/>
        </p:blipFill>
        <p:spPr>
          <a:xfrm>
            <a:off x="228600" y="5013360"/>
            <a:ext cx="2114640" cy="1441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Image24.jpg"/>
          <p:cNvPicPr/>
          <p:nvPr/>
        </p:nvPicPr>
        <p:blipFill>
          <a:blip r:embed="rId4"/>
          <a:stretch/>
        </p:blipFill>
        <p:spPr>
          <a:xfrm>
            <a:off x="228600" y="3206880"/>
            <a:ext cx="2154240" cy="1517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3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Jasón y los argonautas tras su llegada a la Cólquide quieren conseguir el vellocino de oro, pero el rey de la isla impone una serie de pruebas que deberá superar Jasón, como, por ejemplo, la prueba de los toros o los gigantes armado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Jasón tuvo que superarlas para poder obtener el vellocino y así conseguir el trono.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Picture 3" descr="mitojason1.jpg"/>
          <p:cNvPicPr/>
          <p:nvPr/>
        </p:nvPicPr>
        <p:blipFill>
          <a:blip r:embed="rId2"/>
          <a:stretch/>
        </p:blipFill>
        <p:spPr>
          <a:xfrm>
            <a:off x="5867280" y="4302000"/>
            <a:ext cx="2244960" cy="2152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a ayuda de Medea, hija del rey, fue muy importante, porque gracias a Medea, que tiene poderes mágicos, Jasón puede superar mucha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uebas. Además tiene a su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avor que ésta estaba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amorada de Jasón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l rey nunca vio bien qu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dea ayudara a Jasón a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btener el vellocino de oro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or eso le hace volver ante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Medea a la isl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Picture 3" descr="jasonmedea.jpg"/>
          <p:cNvPicPr/>
          <p:nvPr/>
        </p:nvPicPr>
        <p:blipFill>
          <a:blip r:embed="rId2"/>
          <a:stretch/>
        </p:blipFill>
        <p:spPr>
          <a:xfrm>
            <a:off x="6781680" y="3276720"/>
            <a:ext cx="1905120" cy="3178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Jasón y Medea cuando ya habían conseguido el vellocino de oro, huyen hacia la isla perseguidos por Eetes aunque gracias a la astucia de los dos, logran escap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etes no se lo puso fácil, ya que cuando volvían con el vellocino por el mar, cogió varios caminos que él conocía para poder alcanzarlos. A pesar de sus intentos, logran escapar, aunque el rey ordena a Medea volver inmediatamente a la isla, ya que había desobedecido sus órden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asón y Medea habían cumplido su objetivo final, que era llegar a Yolcos con el vellocino de oro y entregárselo al rey Pelias. Inmediatamente, el rey Pelias, le ofreció el trono a Jasón, pero lo más importante es que habían cumplido la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misión: que era conseguir el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vellocin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3" descr="argonautas Jason De Erasmo Quellinus.jpg"/>
          <p:cNvPicPr/>
          <p:nvPr/>
        </p:nvPicPr>
        <p:blipFill>
          <a:blip r:embed="rId2"/>
          <a:stretch/>
        </p:blipFill>
        <p:spPr>
          <a:xfrm>
            <a:off x="1243080" y="4743360"/>
            <a:ext cx="1957320" cy="1865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5:39:36Z</dcterms:created>
  <dc:creator>Julio Muñoz Gaya</dc:creator>
  <dc:description/>
  <dc:language>en-US</dc:language>
  <cp:lastModifiedBy>Julio Muñoz Gaya</cp:lastModifiedBy>
  <dcterms:modified xsi:type="dcterms:W3CDTF">2010-01-06T17:46:36Z</dcterms:modified>
  <cp:revision>26</cp:revision>
  <dc:subject/>
  <dc:title>Slide 1</dc:title>
</cp:coreProperties>
</file>